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C40A1-AA03-4E7E-9113-9B5CB5187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30740-5A33-483A-9B16-459981B3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9771D-4306-48ED-A886-F0C9F4DF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F7B1F-F6F4-4392-849B-1360B12F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2CD1-E3B7-489D-BF64-1F533925E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7EBE-A347-4EBA-96A0-EE52077E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D056-0D57-493B-8934-CF8A6A4C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7EF8-74D7-40E6-8FFD-982AA49E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CEC0-56DE-4419-A512-905B1C40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2F16-829D-4C8E-BB67-FB02AC01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04E7-6180-4C52-991F-9A55064F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20C47-C655-4B03-8E52-4826624C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F40A-68C1-4D53-985A-BD968297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F8B9-424C-4351-A3BC-15B3E2A7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5B0B-D0E1-43CA-AEF7-30C8BB72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0523-2A70-495C-9B14-A0DE31B5D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5342-36FF-468D-BDA9-2519EEDA9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FD63C-C715-46DD-95A4-F599F905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FED20-766D-45DC-9583-4E242912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C8988-A7CF-46AA-B712-56896521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7C22C-AA84-4158-954A-1155DB45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B8796-0E80-4D5A-B633-55253795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8C08E-A7D8-40AC-AEDC-CABA9EFD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284DD-CE93-4CD1-A1F8-B088592F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9D29-B442-41AD-8959-BD7CAF9155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78C9-FE02-4645-902C-7EE0A8581D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Go Tell The Good News – Part 2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arter 12, Lesson 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ts 22:22 – 23:3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ges 190-19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Comf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Lord Encourages Paul – 23: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Lord will see that Paul extends his work in the gospel to ROM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od’s providence is seen in preserving Paul from the angry Jewish mo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ts 2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ve Main Point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 The Council – 23:1-1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The Comfort – 23: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. The Conspiracy – 23:12-24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. The Communication – 23:25-3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. The Confinement – 23:31-3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791320" y="342900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0" y="2238480"/>
            <a:ext cx="6858000" cy="46195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Conspira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The Reprisal against Paul – 23:12-1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The Relative of Paul – 23:16-2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The Removal of Paul – 23:23-2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Preparing to transport Paul to Caesare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ts 2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ve Main Point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 The Council – 23:1-1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The Comfort – 23: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. The Conspiracy – 23:12-24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. The Communication – 23:25-3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. The Confinement – 23:31-3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629400" y="396252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4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Communic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audius Lysias, the Roman commander, writes a letter to Governor Felix in Caesare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Letter explains why Paul is being sent to him – 23:25-3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867280" y="3505320"/>
            <a:ext cx="2006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ts 2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ve Main Point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 The Council – 23:1-1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The Comfort – 23: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. The Conspiracy – 23:12-24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. The Communication – 23:25-3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. The Confinement – 23:31-3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019920" y="449568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3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0" y="2238480"/>
            <a:ext cx="6858000" cy="46195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Confine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2905200"/>
            <a:ext cx="6858000" cy="39528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Caesarea in prison – 23:31-3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 Herod’s pal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ul awaits his Jewish accus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824040"/>
            <a:ext cx="9144000" cy="60339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2133720" y="304920"/>
            <a:ext cx="48956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oman Aqueduct in Caesare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514520"/>
            <a:ext cx="9144000" cy="53434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3276720" y="304920"/>
            <a:ext cx="29718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oman Theater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52560"/>
            <a:ext cx="9144000" cy="6805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133720" y="3048120"/>
            <a:ext cx="1066680" cy="685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6477120"/>
            <a:ext cx="7696440" cy="380880"/>
          </a:xfrm>
          <a:prstGeom prst="rect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573120"/>
            <a:ext cx="9144000" cy="5711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001000" y="3962520"/>
            <a:ext cx="1143000" cy="22096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001000" y="4267080"/>
            <a:ext cx="11430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Word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d Kingdom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f Chris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evail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4876920" y="2209680"/>
            <a:ext cx="1371600" cy="160020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698400"/>
            <a:ext cx="9144000" cy="6159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828800" y="228600"/>
            <a:ext cx="54482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ul Has Returned To Jerusale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 The Last Les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aul Stood Before An Angry Mob –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Acts 22:1-2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e spoke concerning his pre-conver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His background – 22:1-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His bias against Christians – 22:4-5,2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e spoke concerning his conversion – 22:6-1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His vision of the Son of God – 22:6-1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His visit by the servant of God (Ananias) - 12-1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e spoke concerning his post-conversion -22:17-19,2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How God saved him from the Jews – 22:17-1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How God sent him to the Gentiles – 22:2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20001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 Today’s Les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n Jerusale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aul stands before the Roman Military – 22:22-2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anarchy of the crowd – 22-2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action of the commander – 24-29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attitude upon learning Paul is a Roman Citizen - 29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aul stands before the Jewish Sanhedrin – 22:3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220320" cy="537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095880" y="1447920"/>
            <a:ext cx="1752840" cy="3682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Jewish s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867280" y="1828800"/>
            <a:ext cx="990720" cy="838080"/>
          </a:xfrm>
          <a:prstGeom prst="line">
            <a:avLst/>
          </a:prstGeom>
          <a:ln w="5724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60199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oman Fortress of Anton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676520" y="3124080"/>
            <a:ext cx="2438280" cy="2895840"/>
          </a:xfrm>
          <a:prstGeom prst="line">
            <a:avLst/>
          </a:prstGeom>
          <a:ln w="5724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ts 2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ve Main Point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 The Council – 23:1-1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The Comfort – 23: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. The Conspiracy – 23:12-24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. The Communication – 23:25-3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. The Confinement – 23:31-3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Counci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ssault – 23:1-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nger and affirmation of Paul – 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pology – 4-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rgument between the Sadducees and Pharisees – 6-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ts 2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ve Main Point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. The Council – 23:1-1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. The Comfort – 23: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. The Conspiracy – 23:12-24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. The Communication – 23:25-3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. The Confinement – 23:31-3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800600" y="297180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21:10:30Z</dcterms:created>
  <dc:creator>Terry W. Benton</dc:creator>
  <dc:description/>
  <dc:language>en-US</dc:language>
  <cp:lastModifiedBy>Frank D Vines</cp:lastModifiedBy>
  <dcterms:modified xsi:type="dcterms:W3CDTF">2007-02-11T00:50:57Z</dcterms:modified>
  <cp:revision>5</cp:revision>
  <dc:subject/>
  <dc:title>Go Tell The Good News – Part 2</dc:title>
</cp:coreProperties>
</file>